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8.jpeg" ContentType="image/jpeg"/>
  <Override PartName="/ppt/media/image16.pct" ContentType="image/x-pict"/>
  <Override PartName="/ppt/media/image7.jpeg" ContentType="image/jpeg"/>
  <Override PartName="/ppt/media/image20.png" ContentType="image/png"/>
  <Override PartName="/ppt/media/image11.jpeg" ContentType="image/jpeg"/>
  <Override PartName="/ppt/media/image10.pct" ContentType="image/x-pict"/>
  <Override PartName="/ppt/media/image6.jpeg" ContentType="image/jpeg"/>
  <Override PartName="/ppt/media/image22.pct" ContentType="image/x-pict"/>
  <Override PartName="/ppt/media/image21.pct" ContentType="image/x-pict"/>
  <Override PartName="/ppt/media/image19.pct" ContentType="image/x-pict"/>
  <Override PartName="/ppt/media/image17.pct" ContentType="image/x-pict"/>
  <Override PartName="/ppt/media/image15.pct" ContentType="image/x-pict"/>
  <Override PartName="/ppt/media/image14.pct" ContentType="image/x-pict"/>
  <Override PartName="/ppt/media/image9.pct" ContentType="image/x-pict"/>
  <Override PartName="/ppt/media/image2.jpeg" ContentType="image/jpeg"/>
  <Override PartName="/ppt/media/image18.pct" ContentType="image/x-pict"/>
  <Override PartName="/ppt/media/image1.jpeg" ContentType="image/jpeg"/>
  <Override PartName="/ppt/media/image3.jpeg" ContentType="image/jpeg"/>
  <Override PartName="/ppt/media/image5.jpeg" ContentType="image/jpeg"/>
  <Override PartName="/ppt/media/image1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219456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2366-8644-49EA-ADA2-6D1F0D1C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745C-A097-478B-B944-7FF199B7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E73-5E38-4DA9-B77E-CBB6FD6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95276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259240" y="633996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795276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4259240" y="13217400"/>
            <a:ext cx="600588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143-013A-4052-9335-69E1B023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DC14-9180-4A64-A387-A984819F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56A3-0C37-43CA-8230-BCB24CF3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2F1-348F-4A89-8025-C52D95BC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8D7-5324-41FA-BA7B-C8A14212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1951200"/>
            <a:ext cx="186530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8A5-7E80-47BF-908E-6CE4B8F7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FA8-CF5D-4CF1-A74D-1F3DF7A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204280" y="1321740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F964-3754-4289-A665-B34F45D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1204280" y="6339960"/>
            <a:ext cx="910260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3217400"/>
            <a:ext cx="18653040" cy="62805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indent="0">
              <a:spcBef>
                <a:spcPts val="2200"/>
              </a:spcBef>
              <a:buNone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DBBD-214C-4B17-B27B-48266DE3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1951200"/>
            <a:ext cx="18653040" cy="36576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ctr">
            <a:noAutofit/>
          </a:bodyPr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12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6339960"/>
            <a:ext cx="18653040" cy="1316700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rmAutofit/>
          </a:bodyPr>
          <a:p>
            <a:pPr marL="939960" indent="-93996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1" marL="2038320" indent="-78408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2" marL="3135240" indent="-627120">
              <a:spcBef>
                <a:spcPts val="2200"/>
              </a:spcBef>
              <a:buClr>
                <a:srgbClr val="000000"/>
              </a:buClr>
              <a:buFont typeface="Arial"/>
              <a:buChar char="•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3" marL="4389480" indent="-627120">
              <a:spcBef>
                <a:spcPts val="2200"/>
              </a:spcBef>
              <a:buClr>
                <a:srgbClr val="000000"/>
              </a:buClr>
              <a:buFont typeface="Arial"/>
              <a:buChar char="–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4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5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lvl="6" marL="5643720" indent="-62712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497720" y="19994400"/>
            <a:ext cx="695016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727320" y="19994400"/>
            <a:ext cx="4572000" cy="1463760"/>
          </a:xfrm>
          <a:prstGeom prst="rect">
            <a:avLst/>
          </a:prstGeom>
          <a:noFill/>
          <a:ln w="0">
            <a:noFill/>
          </a:ln>
        </p:spPr>
        <p:txBody>
          <a:bodyPr lIns="250920" rIns="250920" tIns="125280" bIns="125280" anchor="t">
            <a:noAutofit/>
          </a:bodyPr>
          <a:lstStyle>
            <a:lvl1pPr indent="0" algn="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508120"/>
                <a:tab algn="l" pos="5016600"/>
                <a:tab algn="l" pos="7524720"/>
                <a:tab algn="l" pos="10032840"/>
              </a:tabLst>
            </a:pPr>
            <a:fld id="{E1E53818-9886-4B6F-8D44-B6DD25B8FAE9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jpeg"/><Relationship Id="rId4" Type="http://schemas.openxmlformats.org/officeDocument/2006/relationships/image" Target="../media/image12.pct"/><Relationship Id="rId5" Type="http://schemas.openxmlformats.org/officeDocument/2006/relationships/image" Target="../media/image13.pct"/><Relationship Id="rId6" Type="http://schemas.openxmlformats.org/officeDocument/2006/relationships/image" Target="../media/image14.pct"/><Relationship Id="rId7" Type="http://schemas.openxmlformats.org/officeDocument/2006/relationships/image" Target="../media/image15.pct"/><Relationship Id="rId8" Type="http://schemas.openxmlformats.org/officeDocument/2006/relationships/image" Target="../media/image16.pct"/><Relationship Id="rId9" Type="http://schemas.openxmlformats.org/officeDocument/2006/relationships/image" Target="../media/image17.pct"/><Relationship Id="rId10" Type="http://schemas.openxmlformats.org/officeDocument/2006/relationships/image" Target="../media/image18.pct"/><Relationship Id="rId11" Type="http://schemas.openxmlformats.org/officeDocument/2006/relationships/image" Target="../media/image19.pct"/><Relationship Id="rId12" Type="http://schemas.openxmlformats.org/officeDocument/2006/relationships/image" Target="../media/image20.png"/><Relationship Id="rId13" Type="http://schemas.openxmlformats.org/officeDocument/2006/relationships/image" Target="../media/image21.pct"/><Relationship Id="rId14" Type="http://schemas.openxmlformats.org/officeDocument/2006/relationships/image" Target="../media/image22.pct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1600200"/>
            <a:ext cx="2819520" cy="2438280"/>
          </a:xfrm>
          <a:prstGeom prst="rect">
            <a:avLst/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1295280"/>
            <a:ext cx="3353040" cy="28958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2120" y="1295280"/>
            <a:ext cx="3124080" cy="3353040"/>
          </a:xfrm>
          <a:prstGeom prst="diamond">
            <a:avLst/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326160" y="211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30800" y="1447920"/>
            <a:ext cx="2971800" cy="2895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6705720"/>
            <a:ext cx="3124080" cy="3352680"/>
          </a:xfrm>
          <a:prstGeom prst="diamond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6934320"/>
            <a:ext cx="2971800" cy="2895480"/>
          </a:xfrm>
          <a:prstGeom prst="ellipse">
            <a:avLst/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7120" y="7010280"/>
            <a:ext cx="2819160" cy="2438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2192120"/>
            <a:ext cx="3353040" cy="2895480"/>
          </a:xfrm>
          <a:prstGeom prst="triangle">
            <a:avLst>
              <a:gd name="adj" fmla="val 50000"/>
            </a:avLst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678520" y="12115800"/>
            <a:ext cx="3124080" cy="3352680"/>
          </a:xfrm>
          <a:prstGeom prst="diamond">
            <a:avLst/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17830800"/>
            <a:ext cx="2971800" cy="2895480"/>
          </a:xfrm>
          <a:prstGeom prst="ellipse">
            <a:avLst/>
          </a:prstGeom>
          <a:solidFill>
            <a:srgbClr val="e310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15800" y="12573000"/>
            <a:ext cx="2971800" cy="2895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754480" y="18135720"/>
            <a:ext cx="2819520" cy="2438280"/>
          </a:xfrm>
          <a:prstGeom prst="rect">
            <a:avLst/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7678520"/>
            <a:ext cx="3352680" cy="2895480"/>
          </a:xfrm>
          <a:prstGeom prst="triangle">
            <a:avLst>
              <a:gd name="adj" fmla="val 50000"/>
            </a:avLst>
          </a:prstGeom>
          <a:solidFill>
            <a:srgbClr val="100c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68080" y="7086600"/>
            <a:ext cx="2819520" cy="243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115800" y="17754480"/>
            <a:ext cx="3352680" cy="289584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12268080"/>
            <a:ext cx="3124080" cy="33530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2997000" cy="2946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629400" y="6934320"/>
            <a:ext cx="30733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1887200" y="1371600"/>
            <a:ext cx="3479760" cy="331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1810880" y="17525880"/>
            <a:ext cx="3632400" cy="350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914400" y="12268080"/>
            <a:ext cx="3263760" cy="313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525880" y="17602200"/>
            <a:ext cx="3302280" cy="3060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7221320" y="6400800"/>
            <a:ext cx="4038480" cy="3962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838080" y="17297280"/>
            <a:ext cx="4013280" cy="3962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24480" y="1676520"/>
            <a:ext cx="39625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145000" y="1295280"/>
            <a:ext cx="39625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5 c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7086600"/>
            <a:ext cx="44197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quar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17983080"/>
            <a:ext cx="39625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0" y="12420720"/>
            <a:ext cx="464832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penn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145000" y="11810880"/>
            <a:ext cx="39625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25 c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10880" y="6400800"/>
            <a:ext cx="39625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0 c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12039480"/>
            <a:ext cx="358128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1 cen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56386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97280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382880"/>
            <a:ext cx="2194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6272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7280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382880" y="0"/>
            <a:ext cx="0" cy="2194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3030200" y="3200400"/>
            <a:ext cx="1495440" cy="1747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516600" y="2895480"/>
            <a:ext cx="1598760" cy="2187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705720" y="3048120"/>
            <a:ext cx="3124080" cy="223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828800" y="3429000"/>
            <a:ext cx="1811160" cy="151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18440280" y="8763120"/>
            <a:ext cx="1300320" cy="1827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1676520" y="8610480"/>
            <a:ext cx="176508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11810880" y="8512200"/>
            <a:ext cx="3962520" cy="2536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12801600" y="14141520"/>
            <a:ext cx="1730520" cy="1860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9"/>
          <a:stretch/>
        </p:blipFill>
        <p:spPr>
          <a:xfrm>
            <a:off x="17754480" y="14560560"/>
            <a:ext cx="2438640" cy="9842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0"/>
          <a:stretch/>
        </p:blipFill>
        <p:spPr>
          <a:xfrm>
            <a:off x="7315200" y="13944600"/>
            <a:ext cx="1843200" cy="190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1"/>
          <a:stretch/>
        </p:blipFill>
        <p:spPr>
          <a:xfrm>
            <a:off x="1905120" y="13944600"/>
            <a:ext cx="1466640" cy="1892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2"/>
          <a:stretch/>
        </p:blipFill>
        <p:spPr>
          <a:xfrm>
            <a:off x="7162920" y="19354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526760" y="106668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41400" y="106668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h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499200" y="99072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137520" y="1066680"/>
            <a:ext cx="187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2360" y="6705720"/>
            <a:ext cx="2227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up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89120" y="670572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t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876312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650760" y="17221320"/>
            <a:ext cx="17337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i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804120" y="670572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b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214560" y="6705720"/>
            <a:ext cx="187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3760" y="11887200"/>
            <a:ext cx="2649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ma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40680" y="11810880"/>
            <a:ext cx="19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52200" y="1173492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be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061560" y="11810880"/>
            <a:ext cx="1873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fox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3"/>
          <a:stretch/>
        </p:blipFill>
        <p:spPr>
          <a:xfrm>
            <a:off x="2057400" y="19126080"/>
            <a:ext cx="1909800" cy="1841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4"/>
          <a:stretch/>
        </p:blipFill>
        <p:spPr>
          <a:xfrm>
            <a:off x="17602200" y="19735920"/>
            <a:ext cx="3505320" cy="8157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679400" y="1722132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hen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3160" y="17145000"/>
            <a:ext cx="2297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bag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32600" y="17221320"/>
            <a:ext cx="2439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saw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106520" y="19202400"/>
            <a:ext cx="137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3:33:49Z</dcterms:created>
  <dc:creator>Karen Reynolds</dc:creator>
  <dc:description/>
  <dc:language>en-US</dc:language>
  <cp:lastModifiedBy>Karen Reynolds</cp:lastModifiedBy>
  <dcterms:modified xsi:type="dcterms:W3CDTF">2007-07-31T00:15:54Z</dcterms:modified>
  <cp:revision>8</cp:revision>
  <dc:subject/>
  <dc:title>PowerPoint Presentation</dc:title>
</cp:coreProperties>
</file>